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88C-B5CE-402C-820C-2ADF9D62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C20-FF4C-4F77-8BFD-9EF69035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8C1-A0A7-4F15-8757-32174A2B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FCD-8FAE-4ECE-85CB-DFF072C4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BF7F-338C-4B73-BE3D-8E1AE49F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690D-17DB-45D8-9EA4-81D98880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0AA8-479E-47DC-B3F2-87328AF0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7CFC-1A61-4C4F-9121-9E576C36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05CA-920B-4439-8624-9F4E1D2A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E469-C5BF-4258-8F53-257C1C0C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0A07-DE8C-4B28-A615-F74A2151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CFA-FA50-4709-9F5A-5A165EFC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53A7-791E-4567-933C-97A74E7F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A2AD-BECC-4A93-9B91-94DC71A9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124F-A928-413F-A473-BF65F5A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E79B-62B1-4DA5-9F3B-0FD4465D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F75C-5CD9-4D82-AF0D-122A9DBD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57E-934A-4E97-8828-4728B5D6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9CA-E3EA-4C88-8791-F852B421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A64-805F-4611-BE26-73EB9903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4DD-774C-454A-A2EB-A767BC75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D57-F650-44B7-A3FE-294F868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C0C-FB34-46D7-9F35-1948646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E8A-B7AA-46B2-B9D5-D933ACFB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C27D-0DBD-4A86-AD6C-C562DB61C02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0C76-8268-4C88-971C-7B32DA5135D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700"/>
                            </p:stCondLst>
                            <p:childTnLst>
                              <p:par>
                                <p:cTn id="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700"/>
                            </p:stCondLst>
                            <p:childTnLst>
                              <p:par>
                                <p:cTn id="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700"/>
                            </p:stCondLst>
                            <p:childTnLst>
                              <p:par>
                                <p:cTn id="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700"/>
                            </p:stCondLst>
                            <p:childTnLst>
                              <p:par>
                                <p:cTn id="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700"/>
                            </p:stCondLst>
                            <p:childTnLst>
                              <p:par>
                                <p:cTn id="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700"/>
                            </p:stCondLst>
                            <p:childTnLst>
                              <p:par>
                                <p:cTn id="1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6700"/>
                            </p:stCondLst>
                            <p:childTnLst>
                              <p:par>
                                <p:cTn id="1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700"/>
                            </p:stCondLst>
                            <p:childTnLst>
                              <p:par>
                                <p:cTn id="1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0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